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EEBA4-BFE8-4039-83C5-F379AF72D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CF50A-883F-4921-9BEC-BAD88C1A5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65598-0939-4B46-A835-BD9DE3E24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64A16-B457-4A1F-99F3-F9906352D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FA290-C2A4-4528-81A8-5B51F4397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F3883-0E72-43CE-B3CD-8D867CA70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4FB5A-A922-47BF-8D6F-4C2D9A64C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E12C5-7DD0-428E-9DCA-6C8AB0A5C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F600A-DC3A-422A-88BE-8ED899A0C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18B87-7325-47C8-AFA4-FD7B00F89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16E1E-A0D1-4BC0-A66A-CB9A84432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584F9-7671-4E21-B65F-B1EBA77E7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3B626-FCB2-4560-AFE7-B3E3877120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Math 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4343400" y="4114800"/>
                <a:ext cx="7714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∈</m:t>
                    </m:r>
                    <m:nary>
                      <m:naryPr>
                        <m:chr m:val="∰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1:09:10Z</dcterms:created>
  <dc:creator>Oliver Craemer</dc:creator>
  <dc:description/>
  <dc:language>en-US</dc:language>
  <cp:lastModifiedBy>Oliver Craemer</cp:lastModifiedBy>
  <dcterms:modified xsi:type="dcterms:W3CDTF">2005-01-06T11:09:21Z</dcterms:modified>
  <cp:revision>1</cp:revision>
  <dc:subject/>
  <dc:title>Math OLE</dc:title>
</cp:coreProperties>
</file>