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479170C-0F6D-4DB7-853C-F618EF7A8DCE}"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C388E55-793D-4433-B1DD-FB4646F8906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131682F-8193-4AB6-ABDA-45D4AC80569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3F4AFB7-FF4A-47DF-9D84-D017A8BB673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8C33BDD-C352-4B13-8E9F-1103CDED426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2806033-B95D-4570-B2C8-737770BF020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1778572-7377-4329-B5C5-6A25E096CD8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F0AC205-1B32-421D-A6FD-BB35416DBEE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8F905FF-59F8-4FBD-A71C-805B95F0383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F55F1E5-DBD1-4FEF-9243-4F0C388462B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D38149E-E410-4037-972A-75011528417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CC604F2-32D4-49F2-B882-30A5D0E7FD4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5637B01-7F93-48E0-B893-869041DC64C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9753019-C1B6-444D-BC1F-9E7ACC86752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A99F52C-282A-4E53-8EA7-48143EC77C0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0EA7A63-8DD7-4606-B59F-4094737BFDC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4F3102B-23DB-4210-8C83-F5B49485A36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B00BCD6-AABD-4195-8A8C-9FE000BA7AA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0DB8F4C-CAE5-4CAF-BEDB-83CF8A79602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900462C-1754-48C3-B655-E35D395959F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503EEF9-3C6A-435A-AAD2-18DC4C67FD8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DF2AB2D-0EBD-47CE-A345-8D7C3E6313E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23D5384-3BFC-40BF-B467-0D3D128EC4D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B49B6F7-2AE4-4B66-8496-0AF723EAE4F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B8AA54D-BD1E-4DE9-9344-54E3DB88CDE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8AE95A8-2AC3-4346-AEEF-D146906BA22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BA48A51-0222-4BE5-A2CD-A5527D5F7E8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1C08F28-3B8E-4794-A26E-FA2CB5BB976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4BE2E1A-E3BA-4CA9-B6E2-626D5FE39C2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717D853-D467-411B-8782-B0BE3BCE0C7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20EC74E-A513-4A4E-83C1-EA76622D10C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2B22795-74AA-45C4-9BA9-48B6461AE8B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73871F7-D189-408B-85C2-6E3F2BBCE88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02F7F0A-3FF1-4567-AE3B-10038A7A471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839499-238A-45F0-B13C-A8EA6C9555B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39D51-7E2B-4228-A250-7F4931DFEB38}"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C5E82-32E4-459B-8DE6-1213471E9579}"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C2840CF1-68D4-41F7-AA73-5C0E0989D7B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DC7578F-2848-4D06-BDB1-3B19DCE957E8}"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A24C333-0172-47DD-9296-B30875E6C92C}"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0EDF48D-054A-42A7-B34E-AB418FD26AC9}"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412F1C2-3AD2-4BD5-B4AE-C4B86151672D}"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E0FC599-DC65-45DF-9352-80790E5AB113}"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BA4B02D-FFFC-49A8-98A8-910CF93A617A}"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E1AA558-5890-42A4-B346-312674D4491E}"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4B65B00-89E1-4DDA-AA6D-91D2C98078A6}"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E638429-6D36-4042-9BCE-0719316213BA}"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B5A9846-2DB8-409B-8A8E-FDB30CE4AC4D}"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A674A54-E1A8-4441-B5D4-F56E589F4560}"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FD36884-C728-49DA-B454-73790555D42A}"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988E78A-2A7F-4119-B58F-92E5ED6C93E6}"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3D6BC46-24DB-4E34-B016-3CF3407E068C}"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1F227E9-2896-474B-836B-E5CC7DBF1AD2}"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1EFDB53-1B8E-4AF6-869E-7677837943A3}"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F5753EF-0FA2-4575-B60C-CC35463EC4F4}"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768722ED-C8A3-4559-A62B-26F4C14F2737}"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FFF2E634-32A0-4F90-BBE2-BE00566DA3BE}"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1D6BB22-453D-4C01-8C89-18AC5A326819}"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B9328EE-8DE5-422B-AC03-17FC3D8BB225}"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8AA0CA6-5D07-4916-8547-5B90F68587B2}"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A21D915-754D-4C40-92B0-18F1793BE4E9}"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E7469C3-A751-4989-86BB-B0592D898E7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4DBE642-B587-4B11-8ECA-9461ABE016E5}"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171D370-7300-4E61-8422-F0D9E8B34C0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7473AB8-E1FA-4D1F-80BE-5E1BA15403E2}"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13073BC0-CAF5-43C7-B7B2-90B878184C2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F507914-B646-47D7-AD6A-B69FE6F5F81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F1D9876-F181-479F-9392-20D23001E2E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0E61E97-65A3-4F73-AE3B-DDFB3D91913E}"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59AFF18-568E-49DB-B834-5314A8477FF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BDADA44-177A-4860-B1BA-4B681F7ADCF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B73C800-64AE-4388-BBB3-6595D2E3B2E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D7C11C7-89F4-4890-85D6-AAD34865BC7B}"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B6C3BBE-7054-4C50-A976-1CE00682F62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65C76D9-B89B-4CBA-B247-1989BB6AAD9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57D9FAA-F364-47AC-ACC4-AE8BDE85A16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4D125BA-86DB-4B2C-B83A-7CF69DF912C8}"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2B95F31-3C8F-43A9-AF90-939515303DE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6D3A33A-3FD3-419F-ABCC-CEB6A2B2FD3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5779CEC-589A-44CC-B1DB-4FC22855C56F}"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3103735-7885-4E78-A06E-D93E6FB6D56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12AA4F1-89CC-4C21-B8C7-EAAA52DF2EC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9917877-95C6-430C-A674-C74DAAA23E4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AE5F812-1A3A-42BB-8B7F-99754D787BF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22902B1-CCE0-4B4C-9E77-3C86C64485FC}"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A5B0285-48BC-4061-BCC7-F0175043580E}"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074AEC6-57E0-4D3E-BBF5-8EE2686A6A83}"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9B0FF20-C96B-4C92-9062-070150EAC218}"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45C4D78-1803-4346-B81F-0879C93BF11A}"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4DF40AD-3BDC-4C22-8A83-845E2F0A2695}"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5D3E842-2276-45C3-A626-40D3066293FE}"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BA58819-9D76-47B7-9316-E13BD5FE179F}"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8C04413-14EE-4C69-AEA6-38303DD41599}"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7D0F254-72B6-4B8E-B6DD-59EEDDE065C6}"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E37C624-CD1A-423C-A41B-7753ED2C1467}"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3E6B7C8-72FD-41D4-868E-F1297CF423FF}"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A778D00-DBA2-4BCD-AE52-E2673EF4A227}"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BD5D20D-AD52-491F-AA73-68D75B1C8337}"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BE84C43-5BB3-413B-A7F8-BC5995A9B9CF}"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51872D4-12D2-4832-AD8C-41D5D22E2E0F}"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D0051C7-7AB5-455A-BBAD-0181A84F8C03}"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4948A49-B68A-476A-966B-C4F7D43D74F6}"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A86EC90-5201-4E08-8C98-9D6617E7F97C}"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CD95487-20DD-477C-8232-547C11D36E7C}"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D79383F-7469-4800-87A8-2C3826F4228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1D1A899-7FBB-4D3D-BEDC-F57FB738C634}"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5227FC5-6543-41E7-ABBA-B9A7E53B446A}"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77FBA19-77C9-498A-83AD-8AAF0125C734}"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5888C58-903B-4B4F-B25F-BCE831D4B489}"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254F1F7-FD26-430D-98AB-5D3DC17A4020}"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45E2750-58A8-489F-A566-358EDD05E5A5}"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CFBF8E1-AF69-46E3-925F-47BBBDD08CC9}"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FE0B8D6-95FD-4A66-AFAB-D7F86E1EB42D}"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9411F38-9534-4D4F-B24B-4CBA43C76272}"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8EAC70F-4AFA-4768-8750-C358C8D1DF8A}"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6A82200-13C5-40B4-AF3B-8A1CA3FE02EE}"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4A928E8-C3DB-4AA8-AC46-979C57DF0C11}"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F7EB221-AF9B-4214-B6EE-0BB8724537D4}"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2C9EED3-4CF3-45D9-8641-52CCB8DFF470}"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7E05728-64CC-4181-BDB0-92E63742FABB}"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BF8CFE3-0DA5-4FD9-B3F4-EB74431958B2}"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C895A2F-F35A-49C8-B9C9-3F1F903E4293}"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9059B09-39BA-472D-A2DB-1A27D5296939}"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619916D-74D4-429E-A50D-77C281A156FE}"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11934F1-BECF-4AC9-8BCD-0F08912994FC}"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AC9A08A-E1B1-478A-903F-55EB15149382}"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A88EE74-5E49-4900-BB9C-D12528EBADCC}"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1DA4D26-DCD5-4476-B14C-4D81C21AE247}"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2A9AAF2-3730-4B2C-A3C1-7B8CBAF7AFCB}"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ECC895B-BA0B-4035-97C8-9FCCA74BB878}"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76AAF3D-B578-4144-BCB6-77D65B351B54}"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70DF1AB-BF25-44A5-AEF8-F1E10DD69D75}"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B8846BC-2D67-471A-942F-A36560D5D1D5}"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D6B5C88-368D-4C92-A3F1-A6B9DB41A4C5}"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AC50E1E7-C623-4944-97D1-CE3E8D13B6D4}"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A491DCA-4145-44AA-8ED6-AD42AFD10D9E}"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39865AF-4471-4C49-AE20-29D49DE5AE4F}"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B7589CF-8285-40EE-A897-F0D9F3D923B5}"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4566390-C5C8-48F3-ACA8-2BD734F4CC04}"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BD6BDDC-DF66-45D5-A723-1E20E0CC0430}"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86776FA-5DB9-4D14-9139-47EB8ABB8192}"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D104294-50CE-4FE2-B0D1-91FD5F1112E0}"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8307973-3E56-4175-9126-114D095E68AC}"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C1643FE-CEDF-4A5A-AF79-EB6E73BD12C9}"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B41B5E6-1644-4515-A93C-3F6E923B0CBB}"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69D4807-A68B-47AC-A524-61F2AD1B622E}"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1D8D40B8-8789-4848-9F6F-AA3D9E67D8B5}"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7CAB06C-DC42-40AA-8FE5-3B8D3138BFE6}"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94B3A02-593F-49FF-96FF-5A09AE3A681E}"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BF62AFA-5671-45C3-9D00-3FDF37DE2B9B}"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FB27762-2187-4458-A8B1-9E9090C611F1}"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E72C0CE-4820-42DB-A495-D911B32A1435}"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C4F5FC8-DFD9-4351-9356-2CB6B35CB35D}"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C52675D-8B33-4433-B7A6-5D5462D964AD}"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CA4010E-B565-4B33-94AB-6D9EA41583F5}"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75B723B-6580-43AA-8C49-7E8CB5F1793F}"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28F5FBB-03CF-4049-B08B-A2F7B6E6B409}"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6511914-EE8C-409B-9E9C-23D50478AFF7}"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